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4.jpeg" ContentType="image/jpeg"/>
  <Override PartName="/ppt/media/image2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.jpeg" ContentType="image/jpeg"/>
  <Override PartName="/ppt/media/image15.wmf" ContentType="image/x-wmf"/>
  <Override PartName="/ppt/media/image5.jpeg" ContentType="image/jpeg"/>
  <Override PartName="/ppt/media/image20.wmf" ContentType="image/x-wmf"/>
  <Override PartName="/ppt/media/image1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2963525" cy="8640763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8133-B8C5-4840-9088-BA4479ACE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1166976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46200" y="4993920"/>
            <a:ext cx="1166976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2DDC-DF56-4E4E-A5D1-503493149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462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6258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6032-1859-4D43-B126-10D21623E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91800" y="201600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537400" y="201600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46200" y="499392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591800" y="499392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537400" y="499392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F088-7592-4E6A-B2CC-A10A4B112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46200" y="2016000"/>
            <a:ext cx="11669760" cy="57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DA8C-43B3-4FD1-A2F8-AC045FE3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1166976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6A75-359E-4555-8E8E-08FD3F39F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1776-BC3B-41E8-8FEC-E0BA331E8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7787-0C47-416E-8885-64BDEE3E1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46200" y="347400"/>
            <a:ext cx="11669760" cy="66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5B5F-AF12-4D1B-A3F2-8886AAE78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462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F5D8-00EF-40B5-B2E9-4957B008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258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140D-2B2B-43C9-BB94-37AC4748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6200" y="4993920"/>
            <a:ext cx="1166976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58FC-7696-440D-B480-C7D1A327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6200" y="2016000"/>
            <a:ext cx="1166976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marL="461880" indent="-46188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1" marL="1003320" indent="-38592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0636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3" marL="2160720" indent="-30960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4" marL="2778120" indent="-30960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5" marL="2778120" indent="-30960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6" marL="2778120" indent="-30960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5840" y="7870320"/>
            <a:ext cx="3025800" cy="5986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lstStyle>
            <a:lvl1pPr indent="0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  <a:defRPr b="0" lang="cs-CZ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27640" y="0"/>
            <a:ext cx="4106880" cy="59832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  <a:defRPr b="1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289800" y="7870320"/>
            <a:ext cx="3025800" cy="5986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lstStyle>
            <a:lvl1pPr indent="0" algn="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  <a:defRPr b="0" lang="cs-CZ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fld id="{47E097D0-6374-4CEB-84DE-E3E8D0F3DF53}" type="slidenum">
              <a:rPr b="0" lang="cs-CZ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1079280" cy="107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e2e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9320" y="838080"/>
            <a:ext cx="11034720" cy="2438640"/>
          </a:xfrm>
          <a:prstGeom prst="rect">
            <a:avLst/>
          </a:prstGeom>
          <a:solidFill>
            <a:srgbClr val="6d1543"/>
          </a:solidFill>
          <a:ln w="9360">
            <a:solidFill>
              <a:srgbClr val="ffffff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7200" spc="-1" strike="noStrike">
                <a:solidFill>
                  <a:srgbClr val="fbfadd"/>
                </a:solidFill>
                <a:latin typeface="Arial"/>
              </a:rPr>
              <a:t>Kulturní zájmy a potřeby</a:t>
            </a:r>
            <a:br>
              <a:rPr sz="7200"/>
            </a:br>
            <a:r>
              <a:rPr b="1" lang="en-US" sz="4000" spc="-1" strike="noStrike">
                <a:solidFill>
                  <a:srgbClr val="fbfadd"/>
                </a:solidFill>
                <a:latin typeface="Arial"/>
              </a:rPr>
              <a:t>obyvatel hlavního města Pra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99840" y="7162560"/>
            <a:ext cx="9753480" cy="10666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3501"/>
              </a:spcAft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Prezentace pro setkání představitelů pražské kulturní obce dne 14. 1.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STEM" descr=""/>
          <p:cNvPicPr/>
          <p:nvPr/>
        </p:nvPicPr>
        <p:blipFill>
          <a:blip r:embed="rId1"/>
          <a:stretch/>
        </p:blipFill>
        <p:spPr>
          <a:xfrm>
            <a:off x="4800600" y="3657600"/>
            <a:ext cx="3124080" cy="328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8D9A-B2D4-4C52-8B82-CC343496A8C4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111492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Reference od známých jsou základ.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Internetu patří nejenom budoucnost, ale i současn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84640" y="2381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1600200"/>
            <a:ext cx="112014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Řekněte mi, odkud čerpáte informace o možnostech kulturního vyžití v Praze?“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65440" y="2328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285920" y="2016000"/>
          <a:ext cx="9937800" cy="642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85920" y="2016000"/>
                    <a:ext cx="9937800" cy="642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D0D5-6CCD-4811-8FEC-EAD0BB80D90A}" type="slidenum">
              <a:t>10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112014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Některé z pražských kulturních projektů 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se staly pojmy, které zná většin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1600200"/>
            <a:ext cx="118872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yní Vám budu postupně číst různé konkrétní akce či zaříze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y mi prosím řekněte, zda je znáte?“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603600" y="2295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22120" y="2797200"/>
          <a:ext cx="6407280" cy="561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2120" y="2797200"/>
                    <a:ext cx="6407280" cy="56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3603600" y="2295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518160" y="2684520"/>
          <a:ext cx="6283440" cy="5452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18160" y="2684520"/>
                    <a:ext cx="6283440" cy="54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BB96-9CBE-4E54-8B05-23CB122FE131}" type="slidenum">
              <a:t>11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Vnímání nabídky v oblasti kultu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ECD5-2AF4-4682-8D97-D42BFABC8E00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1151424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Nabídka kultury v Praze je pestrá. </a:t>
            </a:r>
            <a:br>
              <a:rPr sz="3600"/>
            </a:br>
            <a:r>
              <a:rPr b="1" lang="cs-CZ" sz="3200" spc="-1" strike="noStrike">
                <a:solidFill>
                  <a:srgbClr val="990033"/>
                </a:solidFill>
                <a:latin typeface="Arial"/>
              </a:rPr>
              <a:t>Významný nedostatek z hlediska rozmanitosti neexistu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2330280"/>
            <a:ext cx="64008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slíte si, že je nabídka kulturních pořadů a akcí v  Praze dostatečně rozmanitá?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62120" y="3276720"/>
          <a:ext cx="5873760" cy="487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27672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6629400" y="3200400"/>
          <a:ext cx="5873760" cy="487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29400" y="320040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6705720" y="1905120"/>
            <a:ext cx="586728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yní mi laskavě řekněte, zda je ještě něco jiného, co Vy osobně v nabídce kulturních akcí, pořadů či v oblasti kultury a umění v Praze postrádáte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E1AA-AEE4-4A9B-A287-722EF0D83371}" type="slidenum">
              <a:t>13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2040" y="380880"/>
            <a:ext cx="116694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Jak hodnotí Pražané rozsah nabídky v kultuře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603600" y="2652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03600" y="2581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98920" y="3096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603600" y="28335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23623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57400" y="28195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98920" y="85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3200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98920" y="204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03600" y="8809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2286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6019920"/>
            <a:ext cx="6477120" cy="213336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abídka a poptávka v rovnová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mová představení v klubových kin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mediální projek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neční a baletní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bídka odborných kniho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24480" y="838080"/>
            <a:ext cx="57150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99ff"/>
                </a:solidFill>
                <a:latin typeface="Symbol"/>
                <a:ea typeface="Symbol"/>
              </a:rPr>
              <a:t></a:t>
            </a:r>
            <a:r>
              <a:rPr b="1" lang="en-US" sz="4800" spc="-1" strike="noStrike">
                <a:solidFill>
                  <a:srgbClr val="6699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6699ff"/>
                </a:solidFill>
                <a:latin typeface="Arial"/>
              </a:rPr>
              <a:t>Hodnotí 60 - 70 % obyva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2057400"/>
            <a:ext cx="6477120" cy="3657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optávka spíše vyšší než nabíd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adelní představení pro dě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iné kulturně vzdělávací pořady pro dě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moderní alternativ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ředstavení alternativních divadelních scén  a klub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amatérských umělc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prezentující lidovou kultu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terární pořady, autorská čtení, pás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15200" y="2666880"/>
            <a:ext cx="5257800" cy="281952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abídka a poptávka v rovnová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ředstavení klasických diva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zeální expoz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populár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lerijní či jiné výstavy um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15200" y="5791320"/>
            <a:ext cx="5257800" cy="21333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abídka spíše vyšší než poptáv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mová představení v multikinech, kin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ziká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populár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74960" y="1295280"/>
            <a:ext cx="540936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Hodnotí 85 - 95 % obyvatel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009999"/>
                </a:solidFill>
                <a:latin typeface="Symbol"/>
                <a:ea typeface="Symbol"/>
              </a:rPr>
              <a:t>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2A5C-FEA0-41B2-89BE-E0ECDFBBBEE8}" type="slidenum">
              <a:t>14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125046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Příklady posuzování rozsahu nabídky 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kulturních pořadů v hlavním městě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62120" y="1905120"/>
            <a:ext cx="114300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du Vám nyní číst nabídku jednotlivých druhů kulturních pořadů, akcí a zaříze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y mi, prosím, řekněte, zda máte poci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e některých je málo,  je jich přiměřeně a nebo je jich až moc.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809640" y="3111480"/>
          <a:ext cx="11255400" cy="4794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9640" y="3111480"/>
                    <a:ext cx="11255400" cy="47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C3E4-B15C-4148-98D0-912E9A67E0F6}" type="slidenum">
              <a:t>15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Kulturní zájmy a návštěvno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9AAD-DAC7-403B-947F-97566A5433CB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1189512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Hierarchie zájmu o kulturní oblast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13160" y="2619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676520" y="2590920"/>
          <a:ext cx="10210680" cy="565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2590920"/>
                    <a:ext cx="10210680" cy="56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990720" y="175248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Řekněte mi, prosím, jaký je Váš vztah k jednotlivým oblastem v kultuř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moc se o jednotlivé kulturní akce v těchto oblastech zajímáte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1D3B-A2BA-4AAF-83DB-8DDAF91982D2}" type="slidenum">
              <a:t>17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3880" y="347400"/>
            <a:ext cx="1114920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Zájem generací o jednotlivé druhy umění je různ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570120" y="24382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286000" y="2438280"/>
          <a:ext cx="8991720" cy="581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2438280"/>
                    <a:ext cx="8991720" cy="581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990720" y="175248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ájem o jednotlivé kulturní oblasti podle vě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čet odpovědí „Velmi se zajímám“ + „Poměrně se zajímám“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E690-3ABE-4A8D-9079-7928560CB9F9}" type="slidenum">
              <a:t>18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92040" y="380880"/>
            <a:ext cx="116694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Jak často vyrazí Pražané za kulturou?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03600" y="2652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03600" y="2581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598920" y="3096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03600" y="28335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86200" y="23623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057400" y="28195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598920" y="85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105520" y="3200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98920" y="204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603600" y="8809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057400" y="2286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95280" y="3200400"/>
            <a:ext cx="11049120" cy="205740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zikálová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populár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lubová kina, filmové klu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rní alternativní divadelní scény, klu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klasické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95280" y="5410080"/>
            <a:ext cx="11049120" cy="28195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dborné knihov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moderní alternativ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amatérských umělc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prezentující lidovou kultu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terární kluby, pásma, več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adelní a jiné kulturně vzdělávací programy pro dě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mediální projekty, taneční a baletní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064280" y="3276720"/>
            <a:ext cx="7416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295280" y="1371600"/>
            <a:ext cx="11049120" cy="167652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kina, k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řejné knihovny, muz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lasická divadelní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lerie či výstavy výtvarného um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850520" y="1701720"/>
            <a:ext cx="44935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íce než polov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málně  jednou za r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064280" y="5940360"/>
            <a:ext cx="9108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010280" y="1447920"/>
            <a:ext cx="106704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230680" y="6257880"/>
            <a:ext cx="342828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íce než polovin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ůbec nik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850520" y="3683160"/>
            <a:ext cx="44935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5 – 45 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málně  jednou za r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62C3-75F4-4C24-85D5-2ADF4AA99897}" type="slidenum">
              <a:t>19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Základní informace o výzkumu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1AB2-AC7D-48B2-8FA1-C422C6785580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1174248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Příklady návštěvnosti kulturních pořadů a zařízení 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mezi obyvateli Prahy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62120" y="204156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myslete se, prosím, nad letošním rokem a řekněte mi, jak často obvyk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notlivé kulturní akce či zařízení navštěvujete.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809640" y="3111480"/>
          <a:ext cx="11255400" cy="457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9640" y="3111480"/>
                    <a:ext cx="112554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062D-613B-481D-8377-BD0050DA5371}" type="slidenum">
              <a:t>20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Bariéry účasti na kulturním život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4CE2-A2C5-4EFA-9A8E-24C68E8773DE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1152972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Ne každý může za kulturou, jak by chtěl. 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Lidé tvrdí, že „chybí“ volný čas nebo peníze.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793880" y="2128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38080" y="7696080"/>
            <a:ext cx="11049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6492960" y="3098880"/>
          <a:ext cx="6143400" cy="444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92960" y="3098880"/>
                    <a:ext cx="6143400" cy="44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6324480" y="1981080"/>
            <a:ext cx="655344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ud u Vás převládá pocit, že nemůžete navštěvovat různé kulturní akce a zařízení tak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byste chtěl(a), co je podle Vá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bvykle hlavním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ůvodem?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380880" y="3014640"/>
            <a:ext cx="5639040" cy="46785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228600" y="2057400"/>
            <a:ext cx="60958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dyž to vezmeme všechno dohromady, můžete se návštěvám různých kulturních akcí a zařízení věnovat tak, jak byste chtěl(a):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7A57-C082-489B-86A5-67DE4AA026DC}" type="slidenum">
              <a:t>22</a:t>
            </a:fld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23880" y="347400"/>
            <a:ext cx="1114920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Drahá připadají lidem kina, divadla, koncerty.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Pro většinu lidí není problém místo konání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84640" y="2381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682640" y="3048120"/>
          <a:ext cx="10302840" cy="517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82640" y="3048120"/>
                    <a:ext cx="10302840" cy="51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"/>
          <p:cNvSpPr/>
          <p:nvPr/>
        </p:nvSpPr>
        <p:spPr>
          <a:xfrm>
            <a:off x="533520" y="1905120"/>
            <a:ext cx="1219176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hodnotíte dosažitelnost a cenovou přijatelnost následujících kulturních zařízení v Praze? Pokud jde o jejich dosažitelnost z místa, kde bydlí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ud jde o jejich cenovou přijatelnost.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D37E-3A30-436A-AA9B-59E5D9DF1E4E}" type="slidenum">
              <a:t>23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23880" y="347400"/>
            <a:ext cx="1114920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Nejstarší generace má problémy: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dostupné jsou pro většinu z nich jen knihovn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284640" y="2381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371600" y="1828800"/>
            <a:ext cx="112014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hodnotíte dosažitelnost a cenovou přijatelnost následujících kulturních zařízení v Praze? Pokud jde o jejich cenovou přijatelnost.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oučet odpovědí „Zcela přijatelné + „Spíše přijatelné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456000" y="2262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1984320" y="2971800"/>
          <a:ext cx="9445680" cy="541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4320" y="2971800"/>
                    <a:ext cx="9445680" cy="54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C05C-32F8-456D-8FEB-914200C76F41}" type="slidenum">
              <a:t>24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973080" y="320040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ctr">
            <a:noAutofit/>
          </a:bodyPr>
          <a:p>
            <a:pPr algn="ctr"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Shrnutí a závě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E55F-3283-4BB2-8DE5-DB7AC4BE5316}" type="slidenum">
              <a:t>25</a:t>
            </a:fld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aha jako kulturní centr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066680" y="3429000"/>
            <a:ext cx="11277720" cy="175248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Pražané řadí Prahu mezi nejvýznamnější evropská kulturní centra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066680" y="5943600"/>
            <a:ext cx="11277720" cy="175248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Obyvatelé města oceňují možnosti v oblasti kultury jako jednu z největší předností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27EA-20D3-48E4-9B19-B58BAF12FA50}" type="slidenum">
              <a:t>26</a:t>
            </a:fld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aha jako kulturní centr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066680" y="3429000"/>
            <a:ext cx="11277720" cy="16765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Informace o kulturní nabídce v Praze nescházejí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066680" y="5943600"/>
            <a:ext cx="11277720" cy="16765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Kulturní život v hlavním městě nemá zásadní omezení na straně nabídky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3132-A760-4564-8322-A1EAFFDE7E68}" type="slidenum">
              <a:t>27</a:t>
            </a:fld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ojekce kulturní „spotřeby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066680" y="3352680"/>
            <a:ext cx="11277720" cy="182880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2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851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ezi Pra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any 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nedojde v horizontu 15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 let 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v oblasti kulturních zájmů a potřeb k významným změnám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066680" y="5867280"/>
            <a:ext cx="11277720" cy="182880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2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738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ojde k p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ek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í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ení vlivu demografického stárnutí a zlepšující se úrovn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 celkové vzd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lanosti Pra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an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0C29-A426-4315-81D1-1BD4B0DAE1CB}" type="slidenum">
              <a:t>28</a:t>
            </a:fld>
          </a:p>
        </p:txBody>
      </p: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ojekce kulturní „spotřeby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143000" y="3276720"/>
            <a:ext cx="11125080" cy="190476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2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962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Mírné ne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Times New Roman"/>
              </a:rPr>
              <a:t>dostatk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y ve struktuře nabídky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Times New Roman"/>
              </a:rPr>
              <a:t> se sice výrazn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Times New Roman"/>
              </a:rPr>
              <a:t> neprohloubí, avšak ani neustoupí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143000" y="5791320"/>
            <a:ext cx="11125080" cy="190476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1851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Rozvírání nůžek mezi lidmi s větším a menším zájmem o kulturu může způsobit nepříznivý ekonomický vývoj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851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23EC-D7E0-42C3-8EAC-93094EFE7DE9}" type="slidenum">
              <a:t>29</a:t>
            </a:fld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6800"/>
            <a:ext cx="11950560" cy="710712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marL="1143000" indent="0">
              <a:spcAft>
                <a:spcPts val="1400"/>
              </a:spcAft>
              <a:buNone/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yp výzkumu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vantitativní  reprezentativních še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í</a:t>
            </a: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ílová skupina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byvatelé Prahy starší 15 let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etoda výzkumu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vótní výb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 podle kritérií pohlaví,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u, vzd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ání a 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ských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ástí</a:t>
            </a:r>
            <a:br>
              <a:rPr sz="2800"/>
            </a:br>
            <a:r>
              <a:rPr b="1" lang="cs-CZ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echnika dotazování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andardizované osobní rozhovory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vedené školenými tazateli STEM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ermín výzkumu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2.11. – 2.12. 2004</a:t>
            </a:r>
            <a:br>
              <a:rPr sz="2800"/>
            </a:br>
            <a:r>
              <a:rPr b="1" lang="cs-CZ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ýsledný soubor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850 responden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4EEA-BD72-4F38-88F9-F1A1011CA6AC}" type="slidenum">
              <a:t>3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0033"/>
            </a:gs>
            <a:gs pos="50000">
              <a:srgbClr val="8c043b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47560" y="5638680"/>
            <a:ext cx="10591560" cy="2438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f8f0cc"/>
                </a:solidFill>
                <a:latin typeface="Arial"/>
              </a:rPr>
              <a:t>Přejeme mnoho úspěchů </a:t>
            </a:r>
            <a:br>
              <a:rPr sz="4800"/>
            </a:br>
            <a:r>
              <a:rPr b="1" lang="en-US" sz="4800" spc="-1" strike="noStrike">
                <a:solidFill>
                  <a:srgbClr val="f8f0cc"/>
                </a:solidFill>
                <a:latin typeface="Arial"/>
              </a:rPr>
              <a:t>a děkujeme za pozorno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STEM" descr=""/>
          <p:cNvPicPr/>
          <p:nvPr/>
        </p:nvPicPr>
        <p:blipFill>
          <a:blip r:embed="rId1"/>
          <a:stretch/>
        </p:blipFill>
        <p:spPr>
          <a:xfrm>
            <a:off x="4572000" y="762120"/>
            <a:ext cx="3597120" cy="396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9725-A20D-42CE-8390-87E175B3D8B1}" type="slidenum">
              <a:t>30</a:t>
            </a:fld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ažané a kultu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638360" y="2666880"/>
            <a:ext cx="10553760" cy="51055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txBody>
          <a:bodyPr lIns="123480" rIns="123480" tIns="61560" bIns="61560" anchor="t">
            <a:normAutofit/>
          </a:bodyPr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ké je místo kultury v životě Pražanů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sou Pražané v oblasti kultury informovaní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e nabídka kultury dostatečně rozmanit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 Pražany v kultuře zajímá a kam chodí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mění se v nejbližších letech potřeby veřejnosti   v oblasti kultu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B0BE-E5EE-4CA6-AFA3-E7C1F984BE4A}" type="slidenum">
              <a:t>4</a:t>
            </a:fld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Místo kultury v životě Pražan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0F85-040E-49C9-92B8-ED321E5ED5D2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114411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Kultura není v životním stylu Pražanů prioritou.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13160" y="2619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175248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hlédněte si, prosím, seznam životních stylů a vyberte postupně tř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teré jsou Vám nejbližší. Stanovte pořadí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79840" y="23144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362320" y="2438280"/>
          <a:ext cx="8610480" cy="595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2438280"/>
                    <a:ext cx="8610480" cy="595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DE41-1520-4C5A-A75B-90EACB2CCA05}" type="slidenum">
              <a:t>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1152972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Těsnější vazbu ke kultuře 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má jen poměrně malý podíl Pražan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3880" y="2128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7696080"/>
            <a:ext cx="11049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905120"/>
            <a:ext cx="601992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dyž se srovnáte s jinými lidmi Vašeho věku, jak často ve srovnání s nimi navštěvujete různé kulturní akce a zařízení?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22600" y="278136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79840" y="2619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33520" y="3200400"/>
          <a:ext cx="5029200" cy="432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3200400"/>
                    <a:ext cx="502920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380880" y="2209680"/>
            <a:ext cx="54104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lupodílel(a) jste se v posledním roce na nějaké kulturní akci, projektu:“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400800" y="3124080"/>
          <a:ext cx="5873760" cy="487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00800" y="312408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E108-7F13-45BD-8E21-4C6767CEF9E9}" type="slidenum">
              <a:t>7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Informovanost o kultuř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6D4B-386D-4B36-AD4B-51B436394DCE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00200" y="457200"/>
            <a:ext cx="1104912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Informací o kulturní nabídce je dost.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V</a:t>
            </a:r>
            <a:r>
              <a:rPr b="1" lang="cs-CZ" sz="3200" spc="-1" strike="noStrike">
                <a:solidFill>
                  <a:srgbClr val="990033"/>
                </a:solidFill>
                <a:latin typeface="Arial"/>
              </a:rPr>
              <a:t>ětšina Pražanů si myslí, že má dostatečný přeh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224080"/>
            <a:ext cx="64008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 podle Vás snadné získat dostatek informací o kulturní nabídce v hlavním městě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05720" y="2254320"/>
            <a:ext cx="58672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slíte si, že máte dostatečný přeh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nabídce kultury v Praze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62120" y="3276720"/>
          <a:ext cx="5873760" cy="487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27672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6629400" y="3200400"/>
          <a:ext cx="5873760" cy="487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29400" y="320040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561F-FB1E-4D60-9B0C-F7451C3BF121}" type="slidenum">
              <a:t>9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4T08:22:19Z</dcterms:created>
  <dc:creator>Sýkorová</dc:creator>
  <dc:description/>
  <dc:language>en-US</dc:language>
  <cp:lastModifiedBy>sykorova</cp:lastModifiedBy>
  <dcterms:modified xsi:type="dcterms:W3CDTF">2005-01-12T16:55:05Z</dcterms:modified>
  <cp:revision>360</cp:revision>
  <dc:subject/>
  <dc:title>Hlavní město Praha - portrét roku 2004</dc:title>
</cp:coreProperties>
</file>